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00D-658F-4DC8-8CD8-691890C9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E56-CDEA-41AC-BD30-5C0C04B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037-4AF4-413E-8148-86ED4734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B90-C386-4459-9F10-52B08BA7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0EE9-1E68-42AA-BBBE-6FF9BB3E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1715-8D86-47E3-B273-837AE2A6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136A-CD42-4A8E-871D-A5DB400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27C-2574-4790-BE4F-87871BE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3C2F-FB6F-4C54-A9BA-6E91B662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44DE-269D-49C9-9AB4-7BAC4AD4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828A-C242-4746-BA06-42694FD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5C2-F975-49EF-B2BB-BABF046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B72-5974-4C6F-9138-615EF84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7083-6E59-4046-B8E5-2E6B853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314C-364C-4960-B04E-5252017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0761-8FB2-4244-9AB1-28F0ED2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6660-C0CF-4674-80A2-BF4EB53B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AE7-5CF9-4B23-A754-0BF818E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B26-BF95-4001-A57F-E818F815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444-6B6C-4885-9B34-FC35C52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902-248C-4F9C-B39B-2DB7252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900-6DA1-45AE-86F8-6A2115F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BA0-1154-4B51-B92A-CEEFB9B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E0A-C4BD-49F5-B9C8-3E27978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55E-5472-4957-AA6D-C55EB88CD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7BA0-6B10-44A8-BED8-66CA7720D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odabiologia.com/saude/vitamina_a.htm" TargetMode="External"/><Relationship Id="rId3" Type="http://schemas.openxmlformats.org/officeDocument/2006/relationships/hyperlink" Target="http://www.todabiologia.com/dicionario/retina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odabiologia.com/saude/vitamina_c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As vitamina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 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vitamin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 são compostos orgânicos, presentes nos alimentos, essenciais para o funcionamento normal do metabolismo, e em caso de falta pode levar a doenças. . Atualmente é reconhecido que os seres humanos necessitam de 13 vitaminas diferentes ,sendo que o nosso corpo só consegue produzir vitamina 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vitamina 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 combate radicais livres, atua na formação dos ossos, pele, funções da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etin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2066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vitamina D regulação do cálcio do sangue e dos oss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96000" y="3284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vitamina C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 atua no fortalecimento de sistema imunológico, combate radicais livres e aumenta a absorção do ferro pelo intestin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067280" y="3933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vitaminas, hoje, estão presentes na mídia, nas farmácias e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ermercad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ão vários os produtos (como bolachas, leite, cereais) que recebem, pelo fabricante,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réscimos de vitaminas sintétic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. Entretanto, na teoria evolutiva, aprendemos a depender apenas de quantidades mínimas destas substâncias; alguns cientistas sustentam que estamos, com esta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er-exposição às vitamin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destrando o nosso organismo a consumir e depender de grandes quant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286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melhor escolha para se manter   "vitaminado", portanto, é ainda o bom e velho modo: uma 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limentação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 nutritiva, variada e, ao contrário das pílulas, 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aborosa!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8360" y="4724280"/>
            <a:ext cx="2114280" cy="1590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01:48Z</dcterms:created>
  <dc:creator>VALERIA</dc:creator>
  <dc:description/>
  <dc:language>en-US</dc:language>
  <cp:lastModifiedBy>VALERIA</cp:lastModifiedBy>
  <dcterms:modified xsi:type="dcterms:W3CDTF">2010-12-02T00:40:51Z</dcterms:modified>
  <cp:revision>2</cp:revision>
  <dc:subject/>
  <dc:title>As vitaminas</dc:title>
</cp:coreProperties>
</file>